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AEB-A208-4054-B29B-E2E09D99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7AB-FD0E-4309-86A4-32236D83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780-4F18-45B1-B896-D2F54748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0A1-A38D-4F31-90EF-B07C25B1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C28-1F32-462F-AAAB-38B62299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9E8-005F-4573-9628-7EEC2C4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B61-3D15-4369-9FF8-BFE562E4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A17-852C-4513-BF3D-7617DB00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4DD-D418-41C5-8090-D8E3EF8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73A-7429-450A-9333-965EA83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325-2C31-498A-8E5C-125A0FE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000-7858-438E-B11B-672F8B2D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AD06-E6E6-4E92-A67F-C49689319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eting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first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econ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hir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mall%20your%20company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48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6:11:29Z</dcterms:created>
  <dc:creator>Roger</dc:creator>
  <dc:description/>
  <dc:language>en-US</dc:language>
  <cp:lastModifiedBy>Roger</cp:lastModifiedBy>
  <dcterms:modified xsi:type="dcterms:W3CDTF">2002-05-24T16:12:23Z</dcterms:modified>
  <cp:revision>3</cp:revision>
  <dc:subject/>
  <dc:title> Marketing Presentation</dc:title>
</cp:coreProperties>
</file>